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019-5205-4F4E-89B7-F187501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AB8-FD7A-4D2D-9B60-B8BDFE5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B20-9C78-4678-89BA-62E820DF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6B7-9C8F-48B8-9B13-57D3AD02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D22-7458-4B70-B518-3BEADEA9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E570-6F7D-43F9-82BC-CC3DBCB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738-A349-4FFB-BA02-56D0AC6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5B84-C490-455B-97F8-A89EA759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CAC3-3FE9-4977-B817-7602CC2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9CF-9406-4A7F-BD3F-076441D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CC4-3E14-4763-A0B9-8021242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552-D062-4562-9ED5-9DEC755F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E192-AD44-4929-B9A6-3195C12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746-2DE2-45FD-81EE-49A5CE8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F014-E866-430F-8EC0-669381E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823E-9607-47D5-8365-6183C2D0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F299-5FA9-4AF6-948E-61FA3A23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37D-52B1-4F44-9377-AAE3FEE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D40-4E80-45F6-9B75-2F4433C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C60-3A3B-4D90-9C11-D266253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9D9-1787-4067-AAB2-AF6F6DA7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4CA-29E2-4860-AB2A-9E918D4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CEB-6DCA-46C9-8EA8-C5C7F09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030-AA62-4B90-A6E7-E641D5C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1CF-0134-4BEE-A840-639B32448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DE65-7447-45E0-9DCB-A47C3667F9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udi=B6WP4-4T72R81-3&amp;_user=145269&amp;_coverDate=09%2F30%2F2008&amp;_alid=1236043178&amp;_rdoc=2&amp;_fmt=high&amp;_orig=search&amp;_cdi=6980&amp;_docanchor=&amp;view=c&amp;_ct=28&amp;_acct=C000012078&amp;_version=1&amp;_urlVersion=0&amp;_userid=145269&amp;md5=13a11ceaeefd5a46ba611411cf0a8ef3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sciencedirect.com/science?_ob=ArticleURL&amp;_udi=B6WP4-4T72R81-3&amp;_user=145269&amp;_coverDate=09%2F30%2F2008&amp;_alid=1236043178&amp;_rdoc=2&amp;_fmt=high&amp;_orig=search&amp;_cdi=6980&amp;_docanchor=&amp;view=c&amp;_ct=28&amp;_acct=C000012078&amp;_version=1&amp;_urlVersion=0&amp;_userid=145269&amp;md5=13a11ceaeefd5a46ba611411cf0a8ef3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s of 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s of Hypothesi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4360" y="6634080"/>
            <a:ext cx="13827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pyright restrictions may appl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15320" y="6443640"/>
            <a:ext cx="863640" cy="330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66840" y="1403280"/>
            <a:ext cx="661032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66840" y="5553000"/>
            <a:ext cx="66103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e, I. M. et al. JAMA 2010;303:1173-1179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440" y="162000"/>
            <a:ext cx="881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an (SD) Differences in Weight Over Any 3-Year Period by Physical Activity Level, Women's Health Study, 1992-2007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523880"/>
            <a:ext cx="7696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13545" b="73922"/>
          <a:stretch/>
        </p:blipFill>
        <p:spPr>
          <a:xfrm>
            <a:off x="304920" y="762120"/>
            <a:ext cx="8534160" cy="1577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34290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143000"/>
            <a:ext cx="7391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200400"/>
            <a:ext cx="8686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as the effect size? Those who exercised the leas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0.15 kg (.33 pounds) 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those who exercised the mos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ver 3 y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pola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ver 13 yea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study, the high exercis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ained 1.4 pounds l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the low exerci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ic example of a statistically significant effect that is not clinically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43800" cy="3508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3440" y="162000"/>
            <a:ext cx="8817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picture is wor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43800" cy="3508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3440" y="162000"/>
            <a:ext cx="8817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picture is wor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943600"/>
            <a:ext cx="7543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baseline physical activity should predict weight gain in the first three years…do those slopes look different to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438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31840"/>
            <a:ext cx="7240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hors explain: “Figure 2 shows the trajectory of weight gain over time by baseline physical activity levels. When classified by this single measure of physical activity, all 3 groups showed similar weight gain patterns over time.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recent hea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inkers May Exercise More Than Teetota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y levels rise along with alcohol use, survey show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, Aug. 31 (HealthDay News) -- Here's something to toast: Drinkers are often exercisers”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aching their conclusions, the researchers examined data from participants in the 2005 Behavioral Risk Factor Surveillance System, a yearly telephone survey of abo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30,000 Americ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”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women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ose who imbibed exerci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7.2 minutes more per wee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than teetotal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results applied equally to men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2: association does not equal cau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significance does not imply a cause-effect relation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terpret results in the context of the study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data dredging/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1980, researchers at Duke randomized 1073 heart disease patients into two groups, but treated the groups equ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urprisingly, there was no difference in survi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hey divided the patients into 18 subgroups based on prognostic fa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ubgroup of 3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(with three-vessel disease and an abnormal le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ular contraction) survival of those in “group 1” was significantly different from survival of those in “group 2” (p&lt;.025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ow could this be since there was no treat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6262560"/>
            <a:ext cx="807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ee et al. “Clinical judgment and statistics:  lessons from a simulated randomized trial in coronary artery disease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ircu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61: 508-515, 1980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" dur="1" fill="hold"/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fference resulted from th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d effect of small imbalances in the sub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2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a p-value of 0.05 as the criterion for significance, we’re accepting a 5% chance of a false positive (of calling a difference significant when it really isn’t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we compare survival of “treatment” and “control” within each of 18 subgroups, that’s 18 compari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se comparisons were independent, the chance of at least one false positive would b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33720" y="5791320"/>
            <a:ext cx="4876560" cy="761760"/>
            <a:chOff x="2133720" y="5791320"/>
            <a:chExt cx="4876560" cy="761760"/>
          </a:xfrm>
        </p:grpSpPr>
        <p:sp>
          <p:nvSpPr>
            <p:cNvPr id="222" name=""/>
            <p:cNvSpPr/>
            <p:nvPr/>
          </p:nvSpPr>
          <p:spPr>
            <a:xfrm>
              <a:off x="2133720" y="5791320"/>
              <a:ext cx="4876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276720" y="5867280"/>
                  <a:ext cx="279396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38480" y="3581280"/>
            <a:ext cx="2743200" cy="11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18 independent comparisons, we have 60% chance of at least 1 false po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3733920"/>
            <a:ext cx="0" cy="228600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514600" y="373392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he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 your hypotheses (null, alternati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fy your null distrib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an 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culate the p-value of what you obser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ject or fail to reject (~accept) the null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s the logic: If A then B; not B; therefore, not 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91120" y="4876920"/>
            <a:ext cx="2743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18 independent comparisons, we expect about 1 false po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00400" y="5334120"/>
            <a:ext cx="0" cy="8380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62320" y="533412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ificance level of 0.05 means that your false positive rat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e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5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ru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re than one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your false positive rate will be higher than 5%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ntrol study-wide type I error by planning a limited number of tests. Distinguish between planned and exploratory tests in the results. Correct for multiple compari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2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research question was actually to test whether or not being born on odd or even days predicted anything about your fu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fact, I discovered that people who were born on even d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significantly better English SATs  (p=.0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d to enjoy manuscript writing more (p=.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d to be more pessimistic (p=.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fferences were clinically meaningful. Compared with those born on odd days (n=11), those born on even days (n=13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red 65 points higher on the English SAT (720 vs. 65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joyed manuscript writing by 1.5 units more (6.2 vs. 4.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e less optimistic by 1.5 units (6.7 vs. 8.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can see the NEJM article title now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ing born on even days makes you a better writer, but may predispose to depression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ing that this difference can’t be explained by astrology, it’s obviously an artifa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going on?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e odd/even day question, I asked you 25 other question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ran 25 statistical tests (comparing the outcome variable between odd-day born people and even-day born people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there was a high chance of finding at least one false posit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000160"/>
            <a:ext cx="5790960" cy="4857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-value distribution for the 25 tes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905120"/>
            <a:ext cx="3200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the null hypothesis of no associations (which we’ll assume is true here!), p-values follow a uniform distrib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3048120"/>
            <a:ext cx="2743200" cy="3418920"/>
            <a:chOff x="0" y="3048120"/>
            <a:chExt cx="2743200" cy="3418920"/>
          </a:xfrm>
        </p:grpSpPr>
        <p:sp>
          <p:nvSpPr>
            <p:cNvPr id="250" name=""/>
            <p:cNvSpPr/>
            <p:nvPr/>
          </p:nvSpPr>
          <p:spPr>
            <a:xfrm>
              <a:off x="1828800" y="3885840"/>
              <a:ext cx="914400" cy="258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288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0481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288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 “significant” and near significant p-value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e with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133720"/>
            <a:ext cx="40384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xt, I generated 25 “p-values” from a random number generator (uniform distribution). These were the results from three ru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3505320" cy="2939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822840"/>
            <a:ext cx="3619440" cy="303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24280" y="366228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the medical literatur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examined the relationship between intakes of caffeine/coffee/tea and breast cancer overall and in multiple subgroups (50 tes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, there was no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ratios were close to 1.0 (ranging from 0.67 to 1.79), indicated protection (&lt;1.0) about as often harm (&gt;1.0), and showed no consistent dose-response patt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y found 4 “significant” p-values in subgrou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ffee intake was linked to increased risk in those with benign breast disease (p=.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ffeine intake was linked to increased risk of estrogen/progesterone negative tumors and tumors larger than 2 cm (p=.0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f coffee was linked to reduced risk of BC in postmenopausal hormone users (p=.0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-22320" y="6447240"/>
            <a:ext cx="8957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Ishitani K, Lin J, PhD, Manson JE, Buring JE, Zhang SM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ffeine consumption and the risk of breast cancer in a large prospective cohort of women.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Arch Intern Med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 2008;168:2022-2031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The Underlying Logic of hypothesis tes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752480"/>
            <a:ext cx="5715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s this log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then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Not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 throw in a bit of uncertainty…If A, then probably 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ion of the p-values from the 50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709960" cy="478764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228600" y="2362320"/>
            <a:ext cx="2133720" cy="4114800"/>
            <a:chOff x="228600" y="2362320"/>
            <a:chExt cx="2133720" cy="4114800"/>
          </a:xfrm>
        </p:grpSpPr>
        <p:sp>
          <p:nvSpPr>
            <p:cNvPr id="263" name=""/>
            <p:cNvSpPr/>
            <p:nvPr/>
          </p:nvSpPr>
          <p:spPr>
            <a:xfrm>
              <a:off x="990720" y="3429000"/>
              <a:ext cx="137160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" y="2362320"/>
              <a:ext cx="129528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ikely chance finding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276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238880" y="2590920"/>
            <a:ext cx="1676520" cy="373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so, effect sizes showed no consistent patter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risk rat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ere close to 1.0 (ranging from 0.67 to 1.7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indicated protection (&lt;1.0) about as often harm (&gt;1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showed no consistent dose-response patter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llmarks of a chance find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es are explora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ny tests have been performed but only a few are signific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ignificant p-values are modest in size (between p=0.01 and p=0.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attern of effect sizes is in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-values are not adjusted for multiple compari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4: high type II error (low statistical pow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that are not statistically significant should not be interpreted as "evidence of no effect,” but as “no evidence of effec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may miss effects if they are insufficiently powered (lack precision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tudy of 36 postmenopausal women failed to find a significant relationship between hormone replacement therapy and prevention of vertebral fracture. The odds ratio and 95% CI were: 0.38 (0.12, 1.19), indicating a potentially meaningful clinical effect. Failure to find an effect may have been due to insufficient statistical power for this endpoin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ign adequately powered studies and interpret in the context of study power if results are n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583320"/>
            <a:ext cx="419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: Wimalawansa et al.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Am J Me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998, 104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19-2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itfall 5: the fallacy of comparing statistical signific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ffect was significant in the treatment group, but not significant in the control group” does not imply that the groups differ significa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placebo-controlled randomized trial of DHA oil for eczema, researchers found a statistically significant improvement in the DHA group but not the placebo 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stract reports: “DHA, but not the control treatment, resulted in a significant clinical improvement of atopic eczema.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ever, the improvement in the treatment group was not significantly better than the improvement in the placebo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o this is actually a null resul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sleading “significance comparison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5973840"/>
            <a:ext cx="754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2286000"/>
            <a:ext cx="4038120" cy="3200040"/>
            <a:chOff x="914400" y="2286000"/>
            <a:chExt cx="4038120" cy="320004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rcRect l="58110" t="0" r="0" b="0"/>
            <a:stretch/>
          </p:blipFill>
          <p:spPr>
            <a:xfrm>
              <a:off x="914400" y="2286000"/>
              <a:ext cx="403812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914400" y="2286000"/>
              <a:ext cx="3994920" cy="31521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0" y="6126480"/>
            <a:ext cx="80773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Koch C, Dölle S, Metzger M, et al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ocosahexaenoic acid (DHA) supplementation in atopic eczema: a randomized, double-blind, controlled trial. Br J Dermatol 2008;158:786-79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048120"/>
            <a:ext cx="28195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rovement in the DHA group (18%) is not significantly greater than the improvement in the control group (11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thin-group vs. between-group te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13372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 of statistical tests used to evaluate within-group effects versus statistical tests used to evaluate between-group eff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2819520"/>
          <a:ext cx="7772040" cy="3047400"/>
        </p:xfrm>
        <a:graphic>
          <a:graphicData uri="http://schemas.openxmlformats.org/drawingml/2006/table">
            <a:tbl>
              <a:tblPr/>
              <a:tblGrid>
                <a:gridCol w="3886200"/>
                <a:gridCol w="388584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sts for within-group eff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sts for between-group eff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ed t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-sample t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coxon sign-rank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coxon sum-rank test (equivalently, Mann-Whitney U te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ed-measures ANOVA, time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VA; repeated-measures ANOVA, group*time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Nemar’s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 in proportions, Chi-square test, or relativ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so applies to interactio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ly, “we found a significant effect in subgroup 1 but not subgroup 2” does not constitute prove of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if the effect of a drug is significant in men, but not in women, this is not proof of a drug-gender inte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8" dur="1" fill="hold"/>
                                  <p:tgtEl>
                                    <p:spTgt spid="2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449" dur="1" fill="hold"/>
                                  <p:tgtEl>
                                    <p:spTgt spid="2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statistical te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and Po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-I Erro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so known as 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ing the null when the effect isn’t re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-II Erro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lso known as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ing to reject the null when the effect is r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the flip side of type-II error: 1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β)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seeing a true effect if one exis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04812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971800"/>
            <a:ext cx="3352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sneaky conditiona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43400" y="2362320"/>
            <a:ext cx="4495680" cy="3581280"/>
            <a:chOff x="4343400" y="2362320"/>
            <a:chExt cx="4495680" cy="3581280"/>
          </a:xfrm>
        </p:grpSpPr>
        <p:sp>
          <p:nvSpPr>
            <p:cNvPr id="110" name=""/>
            <p:cNvSpPr/>
            <p:nvPr/>
          </p:nvSpPr>
          <p:spPr>
            <a:xfrm>
              <a:off x="7086600" y="5410080"/>
              <a:ext cx="175248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3886200"/>
              <a:ext cx="342900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2362320"/>
              <a:ext cx="36576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72040" y="2590920"/>
              <a:ext cx="685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000640" y="3733920"/>
              <a:ext cx="76212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62560" y="3657600"/>
              <a:ext cx="99036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294" name=""/>
          <p:cNvGrpSpPr/>
          <p:nvPr/>
        </p:nvGrpSpPr>
        <p:grpSpPr>
          <a:xfrm>
            <a:off x="0" y="1066680"/>
            <a:ext cx="3657600" cy="5791320"/>
            <a:chOff x="0" y="1066680"/>
            <a:chExt cx="3657600" cy="5791320"/>
          </a:xfrm>
        </p:grpSpPr>
        <p:sp>
          <p:nvSpPr>
            <p:cNvPr id="295" name=""/>
            <p:cNvSpPr/>
            <p:nvPr/>
          </p:nvSpPr>
          <p:spPr>
            <a:xfrm>
              <a:off x="0" y="2209680"/>
              <a:ext cx="2666880" cy="46483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1066680"/>
              <a:ext cx="3048120" cy="155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1. What is the dependent variabl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2362320" y="0"/>
            <a:ext cx="4952880" cy="3429000"/>
            <a:chOff x="2362320" y="0"/>
            <a:chExt cx="4952880" cy="3429000"/>
          </a:xfrm>
        </p:grpSpPr>
        <p:sp>
          <p:nvSpPr>
            <p:cNvPr id="300" name=""/>
            <p:cNvSpPr/>
            <p:nvPr/>
          </p:nvSpPr>
          <p:spPr>
            <a:xfrm>
              <a:off x="2362320" y="1600200"/>
              <a:ext cx="4952880" cy="18288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0"/>
              <a:ext cx="3873600" cy="155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. Are the observations correlated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648320" y="457200"/>
            <a:ext cx="4495680" cy="6400800"/>
            <a:chOff x="4648320" y="457200"/>
            <a:chExt cx="4495680" cy="6400800"/>
          </a:xfrm>
        </p:grpSpPr>
        <p:sp>
          <p:nvSpPr>
            <p:cNvPr id="305" name=""/>
            <p:cNvSpPr/>
            <p:nvPr/>
          </p:nvSpPr>
          <p:spPr>
            <a:xfrm>
              <a:off x="7010280" y="1600200"/>
              <a:ext cx="2133720" cy="52578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8320" y="457200"/>
              <a:ext cx="387324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. 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e the observations correlat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unit of observation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* (most comm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f a 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n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observations independent or correla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pendent: observations are unrelated (usually different, unrelated peo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lated: some observations are related to one another, for example: the same person over time (repeated measures), legs within a person, half a 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correlat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0" name="prevterm" descr="previous te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98520"/>
            <a:ext cx="66600" cy="105120"/>
          </a:xfrm>
          <a:prstGeom prst="rect">
            <a:avLst/>
          </a:prstGeom>
          <a:ln w="0">
            <a:noFill/>
          </a:ln>
        </p:spPr>
      </p:pic>
      <p:pic>
        <p:nvPicPr>
          <p:cNvPr id="311" name="nextterm" descr="next te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98520"/>
            <a:ext cx="66600" cy="10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00" y="41788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-face trial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assigned 56 subjects to apply SPF 85 sunscreen to one side of their faces and SPF 50 to the other prior to engaging in 5 hours of outdoor sports during mid-day. The outcome is sunburn (yes/n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of observation = side of a 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observations correlated? Y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5360" y="6277680"/>
            <a:ext cx="34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ussak JE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JAA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2010; 62: 348-349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ignoring correla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22863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le 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--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rmatologist grading of sunburn after an average of 5 hours of skiing/snowboarding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= .03; Fisher’s exact t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09480" y="3048120"/>
          <a:ext cx="7777440" cy="1490400"/>
        </p:xfrm>
        <a:graphic>
          <a:graphicData uri="http://schemas.openxmlformats.org/drawingml/2006/table">
            <a:tbl>
              <a:tblPr/>
              <a:tblGrid>
                <a:gridCol w="3333960"/>
                <a:gridCol w="1960560"/>
                <a:gridCol w="248292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 protection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824120" y="2562120"/>
            <a:ext cx="7920" cy="7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5560" y="3859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49960"/>
            <a:ext cx="8610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sher’s exact test compares the following proportions: 1/56 versus 8/56. Note that individuals are being counted tw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ct analysis of dat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2100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 1. Correct presentation of the data from: Russak JE et a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A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2010; 62: 348-349.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= .016; McNemar’s exact t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38080" y="2971800"/>
          <a:ext cx="6705720" cy="274320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SPF-50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SPF-85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0" y="43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60357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Nemar’s exact test evaluates the probability of the following: In all 7 out of 7 cases where the sides of the face were discordant (i.e., one side burnt and the other side did not), the SPF 50 side sustained the bur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gnoring correlations wi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verestim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-values for within-person or within-cluster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derestim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-values for between-person or between-cluster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atistics for various types of outcom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905120"/>
          <a:ext cx="8763120" cy="444492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4800600" y="1371600"/>
            <a:ext cx="4572000" cy="3276720"/>
            <a:chOff x="4800600" y="1371600"/>
            <a:chExt cx="4572000" cy="3276720"/>
          </a:xfrm>
        </p:grpSpPr>
        <p:sp>
          <p:nvSpPr>
            <p:cNvPr id="332" name=""/>
            <p:cNvSpPr/>
            <p:nvPr/>
          </p:nvSpPr>
          <p:spPr>
            <a:xfrm>
              <a:off x="6324480" y="2971800"/>
              <a:ext cx="3048120" cy="16765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1371600"/>
              <a:ext cx="387360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assumptions of linear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for linear models (ttest, ANOVA, linear correlation, linear regression, paired ttest, repeated-measures ANOVA, mixed model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ly distributed outcom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important for small samples; large samples are quite robust against this assum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ors have a linear relationship with the out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displays can help evaluate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5" dur="1" fill="hold"/>
                                  <p:tgtEl>
                                    <p:spTgt spid="3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 of…</a:t>
            </a:r>
            <a:br>
              <a:rPr sz="32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cal’s W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981080"/>
            <a:ext cx="7314840" cy="4038480"/>
            <a:chOff x="533520" y="1981080"/>
            <a:chExt cx="7314840" cy="4038480"/>
          </a:xfrm>
        </p:grpSpPr>
        <p:grpSp>
          <p:nvGrpSpPr>
            <p:cNvPr id="118" name=""/>
            <p:cNvGrpSpPr/>
            <p:nvPr/>
          </p:nvGrpSpPr>
          <p:grpSpPr>
            <a:xfrm>
              <a:off x="538920" y="1987560"/>
              <a:ext cx="7302600" cy="4024080"/>
              <a:chOff x="538920" y="1987560"/>
              <a:chExt cx="7302600" cy="40240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538920" y="1987560"/>
                <a:ext cx="2433960" cy="1901160"/>
                <a:chOff x="538920" y="1987560"/>
                <a:chExt cx="2433960" cy="190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21360" y="1987560"/>
                  <a:ext cx="2269080" cy="19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our Decis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38920" y="1987560"/>
                  <a:ext cx="2433960" cy="19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973240" y="1987560"/>
                <a:ext cx="4868280" cy="883440"/>
                <a:chOff x="2973240" y="1987560"/>
                <a:chExt cx="4868280" cy="883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055680" y="1987560"/>
                  <a:ext cx="470340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e TRU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3240" y="1987560"/>
                  <a:ext cx="486828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973240" y="2871360"/>
                <a:ext cx="2433960" cy="1017000"/>
                <a:chOff x="2973240" y="2871360"/>
                <a:chExt cx="2433960" cy="1017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55680" y="2871360"/>
                  <a:ext cx="226908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d Exis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973240" y="2871360"/>
                  <a:ext cx="243396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407560" y="2871360"/>
                <a:ext cx="2433960" cy="1017000"/>
                <a:chOff x="5407560" y="2871360"/>
                <a:chExt cx="2433960" cy="1017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490000" y="2871360"/>
                  <a:ext cx="226908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d Doesn’t Exi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407560" y="2871360"/>
                  <a:ext cx="243396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38920" y="3889080"/>
                <a:ext cx="2433960" cy="1017720"/>
                <a:chOff x="538920" y="3889080"/>
                <a:chExt cx="2433960" cy="1017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136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ject G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3892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973240" y="3889080"/>
                <a:ext cx="2433960" cy="1017720"/>
                <a:chOff x="2973240" y="3889080"/>
                <a:chExt cx="2433960" cy="1017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5568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BIG MISTAK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324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407560" y="3889080"/>
                <a:ext cx="2433960" cy="1017720"/>
                <a:chOff x="5407560" y="3889080"/>
                <a:chExt cx="2433960" cy="1017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49000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0756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38920" y="4907160"/>
                <a:ext cx="2433960" cy="1104480"/>
                <a:chOff x="538920" y="4907160"/>
                <a:chExt cx="2433960" cy="11044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2136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ept G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892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973240" y="4907160"/>
                <a:ext cx="2433960" cy="1104480"/>
                <a:chOff x="2973240" y="4907160"/>
                <a:chExt cx="2433960" cy="1104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05568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5228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Big Pay O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7324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07560" y="4907160"/>
                <a:ext cx="2433960" cy="1104480"/>
                <a:chOff x="5407560" y="4907160"/>
                <a:chExt cx="2433960" cy="1104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49000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MINOR MISTAK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0756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533520" y="1981080"/>
              <a:ext cx="731484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atistics for various types of outcom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28600" y="1905120"/>
          <a:ext cx="8763120" cy="444492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5105520" y="2590920"/>
            <a:ext cx="4419360" cy="2895480"/>
            <a:chOff x="5105520" y="2590920"/>
            <a:chExt cx="4419360" cy="2895480"/>
          </a:xfrm>
        </p:grpSpPr>
        <p:sp>
          <p:nvSpPr>
            <p:cNvPr id="339" name=""/>
            <p:cNvSpPr/>
            <p:nvPr/>
          </p:nvSpPr>
          <p:spPr>
            <a:xfrm>
              <a:off x="6477120" y="4191120"/>
              <a:ext cx="3047760" cy="129528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2590920"/>
              <a:ext cx="387324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assumptions for categorical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for categorical tests (relative risks, chi-square, logistic regression, McNemar’s test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cient numbers in each cell (np&gt;=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sunscreen trial, “exact” tests (Fisher’s exact, McNemar’s exact) were used because of the spars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3" dur="1" fill="hold"/>
                                  <p:tgtEl>
                                    <p:spTgt spid="3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 outcome (means); HRP 259/HRP 2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2057400"/>
          <a:ext cx="8763120" cy="4780080"/>
        </p:xfrm>
        <a:graphic>
          <a:graphicData uri="http://schemas.openxmlformats.org/drawingml/2006/table">
            <a:tbl>
              <a:tblPr/>
              <a:tblGrid>
                <a:gridCol w="1219320"/>
                <a:gridCol w="2438280"/>
                <a:gridCol w="2514600"/>
                <a:gridCol w="2590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s if the normality assumption is violated (and small sample size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two independent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more than two independent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arson’s correlation coefficien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linear correlation)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ws linear correlation between two continuous 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used when the outcome is continuous; gives slo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two related groups (e.g., the same subjects before and af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changes over time in the means of two or more groups (repeated measur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s to compare changes over time between two or more groups; gives rate of change over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Non-parametr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lcoxon sign-rank t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the paired t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lcoxon sum-rank t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=Mann-Whitney U test)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on-parametric alternative to the t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uskal-Wallis test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AN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arman rank correlation coefficie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Pearson’s correlation coeffici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inary or categorical outcomes (proportions); HRP 259/HRP 2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2057400"/>
          <a:ext cx="8763120" cy="437040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590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correla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 to the chi-square test if sparse cel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, yes/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more than two grou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ds ratios or risk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techniq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d when outcome is binary; gives multivariate-adjusted odds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chi-square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binary outcome between correlated groups (e.g., before and af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for a binary outcome when groups are correlated (e.g., matc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for a binary outcome when groups are correlated (e.g., repeated measur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sher’s exact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independent groups when there are sparse data (some cells &lt;5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exact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correlated groups when there are sparse data (some cells &lt;5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-to-event outcome (survival data); HRP 2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2057400"/>
          <a:ext cx="8763120" cy="2735280"/>
        </p:xfrm>
        <a:graphic>
          <a:graphicData uri="http://schemas.openxmlformats.org/drawingml/2006/table">
            <a:tbl>
              <a:tblPr/>
              <a:tblGrid>
                <a:gridCol w="1219320"/>
                <a:gridCol w="4724280"/>
                <a:gridCol w="1371600"/>
                <a:gridCol w="1447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 groups independent or correla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cations to Cox regression if proportional-hazards is violate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 (e.g., time to fractu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imates survival functions for each group (usually displayed graphically); compares survival functions with log-rank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technique for time-to-event data; gives multivariate-adjusted hazard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(already over ti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dependent predictors or time-dependent hazard ratios (tricky!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 I and Type II Error in a bo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1981080"/>
            <a:ext cx="7695720" cy="4038480"/>
            <a:chOff x="533520" y="1981080"/>
            <a:chExt cx="7695720" cy="4038480"/>
          </a:xfrm>
        </p:grpSpPr>
        <p:grpSp>
          <p:nvGrpSpPr>
            <p:cNvPr id="152" name=""/>
            <p:cNvGrpSpPr/>
            <p:nvPr/>
          </p:nvGrpSpPr>
          <p:grpSpPr>
            <a:xfrm>
              <a:off x="539280" y="1987560"/>
              <a:ext cx="7682760" cy="4024080"/>
              <a:chOff x="539280" y="1987560"/>
              <a:chExt cx="7682760" cy="40240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39280" y="1987560"/>
                <a:ext cx="2560680" cy="1901160"/>
                <a:chOff x="539280" y="1987560"/>
                <a:chExt cx="2560680" cy="1901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6040" y="1987560"/>
                  <a:ext cx="2387160" cy="19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our Statistical Decis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39280" y="1987560"/>
                  <a:ext cx="2560680" cy="19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100320" y="1987560"/>
                <a:ext cx="5121720" cy="883440"/>
                <a:chOff x="3100320" y="1987560"/>
                <a:chExt cx="5121720" cy="883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187080" y="1987560"/>
                  <a:ext cx="494820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ue state of null hypothesi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100320" y="1987560"/>
                  <a:ext cx="512172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100320" y="2871360"/>
                <a:ext cx="2560680" cy="1017000"/>
                <a:chOff x="3100320" y="2871360"/>
                <a:chExt cx="2560680" cy="1017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187080" y="2871360"/>
                  <a:ext cx="238716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Tru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ample: the drug doesn’t work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100320" y="2871360"/>
                  <a:ext cx="256068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661360" y="2871360"/>
                <a:ext cx="2560680" cy="1017000"/>
                <a:chOff x="5661360" y="2871360"/>
                <a:chExt cx="2560680" cy="1017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748120" y="2871360"/>
                  <a:ext cx="238716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al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ample: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61360" y="2871360"/>
                  <a:ext cx="256068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39280" y="3889080"/>
                <a:ext cx="2560680" cy="1017720"/>
                <a:chOff x="539280" y="3889080"/>
                <a:chExt cx="2560680" cy="1017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2604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ject 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: you conclude that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928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00320" y="3889080"/>
                <a:ext cx="2560680" cy="1017720"/>
                <a:chOff x="3100320" y="3889080"/>
                <a:chExt cx="2560680" cy="1017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8708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Type I error (α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0032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661360" y="3889080"/>
                <a:ext cx="2560680" cy="1017720"/>
                <a:chOff x="5661360" y="3889080"/>
                <a:chExt cx="2560680" cy="1017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74812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6136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9280" y="4907160"/>
                <a:ext cx="2560680" cy="1104480"/>
                <a:chOff x="539280" y="4907160"/>
                <a:chExt cx="2560680" cy="1104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2604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 not reject 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: you conclude that there is insufficient evidence that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928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100320" y="4907160"/>
                <a:ext cx="2560680" cy="1104480"/>
                <a:chOff x="3100320" y="4907160"/>
                <a:chExt cx="2560680" cy="1104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18708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5228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0032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661360" y="4907160"/>
                <a:ext cx="2560680" cy="1104480"/>
                <a:chOff x="5661360" y="4907160"/>
                <a:chExt cx="2560680" cy="110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74812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Type II Error (β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66136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533520" y="1981080"/>
              <a:ext cx="769572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rror and Pow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ype I error rate (or significance level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finding an effect that isn’t real (false positiv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f we require p-value&lt;.05 for statistical significance, this means that 1/20 times we will find a positive result just by chanc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ype II error rat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missing an effect (false negat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atistical pow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finding an effect if it is there (the probability of not making a type II err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we design studies, we typically aim for a power of 80% (allowing a false negative rate, or type II error rate, of 20%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1: over-emphasis on p-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nically unimportant effects may be statistically significant if a study is large (and therefore, has a small standard error and extreme precision)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Pay attention to effect size and confidence interval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effect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spective cohort study of 34,079 women found that women who exercised &gt;21 MET hours per week gained significantly less weight than women who exercised &lt;7.5 MET hours (p&lt;.0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lines: “To Stay Trim, Women Need an Hour of Exercise Daily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-120240" y="6553080"/>
            <a:ext cx="62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 Activity and Weight Gain Prevention.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JAMA 2010;303:1173-117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0:13:20Z</dcterms:created>
  <dc:creator>kristinc</dc:creator>
  <dc:description/>
  <dc:language>en-US</dc:language>
  <cp:lastModifiedBy>Kristin</cp:lastModifiedBy>
  <dcterms:modified xsi:type="dcterms:W3CDTF">2011-11-07T21:22:43Z</dcterms:modified>
  <cp:revision>82</cp:revision>
  <dc:subject/>
  <dc:title>PowerPoint Presentation</dc:title>
</cp:coreProperties>
</file>