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o you now have tow grou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OC is a signal detection technique (Exploratory or hypothesis  genera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raditionally most use of it is in evaluation of medical tests: refer to helens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Very easy to understand the ROC through the idea of how well a diagnositc test identifes an ill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But of course it is not restricted to test eval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Same technique can be Also used outcome of many sor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e think of diagnostic test=predi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=outcome of interest (Binary outco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NOT DO A SIMPLE LOGISTIC REGRESSION WHICH IS A REGRESSION WHICH CAN DEAL WITH BINARY OUTCO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article by Helena, etc.comparing logistic regression and ROC analysis entil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handout on th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2480" cy="3473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 ROC  curve is essentially plotting sensitivity against specifi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you can see in the top right hand corner is the id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 Red is what you wa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e positive- waste of fuel and pil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e negative: bombs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Rectangle 2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439560" y="0"/>
              <a:ext cx="373320" cy="4667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5184b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592200" y="1467000"/>
              <a:ext cx="525240" cy="1218960"/>
            </a:xfrm>
            <a:prstGeom prst="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" name="Line 8"/>
            <p:cNvSpPr/>
            <p:nvPr/>
          </p:nvSpPr>
          <p:spPr>
            <a:xfrm>
              <a:off x="243000" y="1409760"/>
              <a:ext cx="8883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5699160" y="6377040"/>
            <a:ext cx="324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Receiver Operating Characteristic Curve 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(ROC) Analysis for Prediction Studies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uth O’Hara, Helena Kraemer, Jerome Yesavage,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Jean Thompson, Art Noda, Joy Taylor,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Jared Tinklenberg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endParaRPr b="0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990720" y="5122080"/>
            <a:ext cx="72356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tanford University, Department of Psychiatry and Behavioral Science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tanford University School of Medicine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ierra Pacific MIRECC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Veterans Affairs  Palo Alto Health Care Syste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ROC Analysis: </a:t>
            </a:r>
            <a:br>
              <a:rPr sz="4000"/>
            </a:b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Evaluating Medical Tests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valuation of the ability of a diagnostic test to identify a disease involves considering: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=Prevalence = occurrence in the population of the outcome of interest (e.g. disease)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ue Positives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ue Negatives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lse Positives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lse Negatives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=Prevalence=True Positives + False Negatives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4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ROC Analysis: </a:t>
            </a:r>
            <a:br>
              <a:rPr sz="4000"/>
            </a:b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Medical Test Evaluation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rue Positive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Test states you have the disease when you do have the disease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ue Negative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Test states you do not have the disease when you do not have the disease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alse Positive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Test states you have the disease when you do not have the disease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alse Negative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Test states you do not have the disease when you do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ROC Analysis: </a:t>
            </a:r>
            <a:br>
              <a:rPr sz="4000"/>
            </a:b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Evaluating Medical Tests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Sensitivity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The probability of having a positive test result among those with a positive diagnosis for the disease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 = True Positives / True Positives + False Negatives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ecificity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The probability of having a negative test result among those with a negative diagnosis for the disease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 = True Negatives / True Negatives + False Positives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e Basic Tool:  2X2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9480" y="1828800"/>
          <a:ext cx="8305920" cy="3452760"/>
        </p:xfrm>
        <a:graphic>
          <a:graphicData uri="http://schemas.openxmlformats.org/drawingml/2006/table">
            <a:tbl>
              <a:tblPr/>
              <a:tblGrid>
                <a:gridCol w="2586240"/>
                <a:gridCol w="1906560"/>
                <a:gridCol w="1906560"/>
                <a:gridCol w="1906560"/>
              </a:tblGrid>
              <a:tr h="102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Test+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Test-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O+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TP(a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FN(b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P(a </a:t>
                      </a: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 b) 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O-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FP(c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TN(d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P'=1-P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2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Q(a </a:t>
                      </a: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 c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Q'=1-Q</a:t>
                      </a:r>
                      <a:endParaRPr b="0" lang="en-US" sz="3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24"/>
          <p:cNvSpPr/>
          <p:nvPr/>
        </p:nvSpPr>
        <p:spPr>
          <a:xfrm>
            <a:off x="0" y="5864400"/>
            <a:ext cx="966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nsitivity (SE)=a/P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pecificity (SP)=d/P’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25"/>
          <p:cNvSpPr/>
          <p:nvPr/>
        </p:nvSpPr>
        <p:spPr>
          <a:xfrm>
            <a:off x="2971800" y="2895480"/>
            <a:ext cx="3505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2971800" y="2895480"/>
            <a:ext cx="0" cy="1524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Line 27"/>
          <p:cNvSpPr/>
          <p:nvPr/>
        </p:nvSpPr>
        <p:spPr>
          <a:xfrm>
            <a:off x="2971800" y="4419720"/>
            <a:ext cx="3505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Line 28"/>
          <p:cNvSpPr/>
          <p:nvPr/>
        </p:nvSpPr>
        <p:spPr>
          <a:xfrm>
            <a:off x="6477120" y="2895480"/>
            <a:ext cx="0" cy="1524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ROC: GDS (Test) for Diagnosis of </a:t>
            </a: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linically Confirmed Depression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920880" y="1909800"/>
          <a:ext cx="7129440" cy="52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909800"/>
                    <a:ext cx="712944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4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Which Test Do You Use: </a:t>
            </a:r>
            <a:br>
              <a:rPr sz="4000"/>
            </a:b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Medical Tests Evaluation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GD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SE = .80; SP = .85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eck Depression Inventor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SE = .85; SP = .75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ajor Depression Inventor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 SE = .66; SP = .63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 Analysis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OC first calculates Sensitivity and Specific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ality Indices measures the quality of the sensitivity and specific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OC computes the quality indices for each predictor to find the ones with optimal sensitivity and specificity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To Detect the Optimal 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Sensitivity and Specificity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pends on the relative CLINICAL importance of false negatives versus false positives.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=1 means only false negatives matter.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=0 means only false positives matter.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=1/2 means both matter equally.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alytically:  Use weighted kappa.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 Analysis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 = TP + F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’= 1- (TP + FN)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 = TP + FP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’= 1- (TP + FP)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FF = TP + TN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κ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0.5, 0) = [ (TP + TN) - (TP + FN)(TP+FP) - (1-(TP + FN)(1-(TP + FP))]</a:t>
            </a:r>
            <a:endParaRPr b="0" i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1 –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TP + FN)(TP+FP) - (1-(TP + FN))(1-(TP + FP))]</a:t>
            </a:r>
            <a:endParaRPr b="0" i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1981080" y="4191120"/>
            <a:ext cx="6019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 Plane and “Curve”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1523880" y="1447920"/>
          <a:ext cx="57150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47920"/>
                    <a:ext cx="5715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4"/>
          <p:cNvSpPr/>
          <p:nvPr/>
        </p:nvSpPr>
        <p:spPr>
          <a:xfrm>
            <a:off x="3491280" y="430848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P,P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558320" y="347040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Q,Q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962520" y="2666880"/>
            <a:ext cx="3045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758560" y="277488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Random ROC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016000" y="147960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Ideal Point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562640" y="132732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ROC “curve”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4876920" y="1676520"/>
            <a:ext cx="0" cy="7617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 flipH="1">
            <a:off x="2437920" y="2743200"/>
            <a:ext cx="1676520" cy="2514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2514600" y="1905120"/>
            <a:ext cx="1295280" cy="2438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 flipH="1" flipV="1">
            <a:off x="3581280" y="1828800"/>
            <a:ext cx="1067040" cy="1828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V="1">
            <a:off x="4114800" y="1905120"/>
            <a:ext cx="2819520" cy="838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 flipH="1">
            <a:off x="2437920" y="1905120"/>
            <a:ext cx="4496040" cy="3352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V="1">
            <a:off x="6095880" y="25909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nical practice is often “hit or miss” therapy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y one thing, if that does not work, try another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s i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frustratin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 the patient an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xpensive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Goal:  find the best treatment for the patient with specific characteristics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ew news in psychiatry; old hat in internal medicine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he Clinical Need for</a:t>
            </a: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br>
              <a:rPr sz="4400"/>
            </a:b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ignal Detection</a:t>
            </a: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 Procedures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Receiver Operating Characteristic Curve </a:t>
            </a: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(ROC) Analysis Applications</a:t>
            </a:r>
            <a:br>
              <a:rPr sz="4000"/>
            </a:b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Identifying Predictors of Clinical Outcome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OC Analysis: </a:t>
            </a:r>
            <a:br>
              <a:rPr sz="4400"/>
            </a:b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ediction Studies (Dr. Kraemer)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OC can identify predictors/characteristics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f patients that are at differential risk for a specific outcome of interest. e.g. What are the Characteristics of AD Patients at risk for rapid decline and are high priority for treatment?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at are the clinical predictors of Alzheimer Disease patients who are “good responders” (or “poor responders”) to cholinesterase inhibitor treatments?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eful in “real world” clinical medicine where multiple variables affect the clinical outcome and patients seldom have one pure diagnosis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119240" y="4638600"/>
            <a:ext cx="692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OC: Identifying Predictors </a:t>
            </a:r>
            <a:br>
              <a:rPr sz="4400"/>
            </a:b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of an Outcome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. ROC relates a predictor 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s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to the clinical outcome of interest 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agnosis/Gold Standar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. ROC searches all predictors and their associated cut-points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 ROC determines which predictor  and associated cut-point yields the optimal sensitivity and specificity for identifying the outcome of interest yielding two groups at differential risk for the outcome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OC: Identifying Predictors </a:t>
            </a:r>
            <a:br>
              <a:rPr sz="4400"/>
            </a:b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of an Outcome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. ROC is an iterative process that is then rerun automatically for each group yielded in Step 3. in order to examine which predictor and associated cut-point may further divide the groups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. ROC will keep searching within each group yielded until one of three stopping rules apply (see Stopping rule slide)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. ROC thus identifies subgroups of individuals that are at increased risk for the outcome of interest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OC Analysis:</a:t>
            </a:r>
            <a:br>
              <a:rPr sz="4400"/>
            </a:b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vantages and Disadvantages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o assumptions of normal distribution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predictors can be evaluated simultaneously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dicates interactions among predictors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dicates cut-points on these predictors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ields clinically relevant information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on-hypothesis testing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quires large samples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pitalizes on chance: needs stringent stopping rule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119240" y="4638600"/>
            <a:ext cx="692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ff00"/>
                </a:solidFill>
                <a:uFillTx/>
                <a:latin typeface="Times New Roman"/>
              </a:rPr>
              <a:t>ROC Analysis: Procedure</a:t>
            </a:r>
            <a:endParaRPr b="0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art with large sample size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fine the outcome of interest (always binary)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oose Success/Failure criteria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lect predictor variables of interest (as many as you like)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un ROC Program that systematically finds best predictors for Success/Failure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e Basic Tool:  2X2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828800"/>
          <a:ext cx="8305920" cy="3452760"/>
        </p:xfrm>
        <a:graphic>
          <a:graphicData uri="http://schemas.openxmlformats.org/drawingml/2006/table">
            <a:tbl>
              <a:tblPr/>
              <a:tblGrid>
                <a:gridCol w="2586240"/>
                <a:gridCol w="1906560"/>
                <a:gridCol w="1906560"/>
                <a:gridCol w="1906560"/>
              </a:tblGrid>
              <a:tr h="102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RF+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RF-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O+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TP(a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FN(b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P(a </a:t>
                      </a: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 b) 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O-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FP(c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TN(d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P'=1-P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2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Q(a </a:t>
                      </a: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r>
                        <a:rPr b="0" i="1" lang="en-US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 c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Arial"/>
                        </a:rPr>
                        <a:t>Q'=1-Q</a:t>
                      </a:r>
                      <a:endParaRPr b="0" lang="en-US" sz="3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24"/>
          <p:cNvSpPr/>
          <p:nvPr/>
        </p:nvSpPr>
        <p:spPr>
          <a:xfrm>
            <a:off x="0" y="5864400"/>
            <a:ext cx="966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nsitivity (SE)=a/P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pecificity (SP)=d/P’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25"/>
          <p:cNvSpPr/>
          <p:nvPr/>
        </p:nvSpPr>
        <p:spPr>
          <a:xfrm>
            <a:off x="2971800" y="2895480"/>
            <a:ext cx="3505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2971800" y="2895480"/>
            <a:ext cx="0" cy="1524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2971800" y="4419720"/>
            <a:ext cx="3505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6477120" y="2895480"/>
            <a:ext cx="0" cy="1524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OC: Identifying Predictors &amp;</a:t>
            </a: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Their Cut-points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chotomous Variables such as Gender: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OC calculates the Se and Sp for Female vs. Male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 Continuous Variables such as Age: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OC would calculate Se and Sp for the cut-point of 60 vs. 61+62+63 ….85; then could calculate for cut-point of 60+61 vs. 62+63+64 ….85, and so forth.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ROC: Gender as Predictor of</a:t>
            </a:r>
            <a:br>
              <a:rPr sz="4000"/>
            </a:b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linically Confirmed Depression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933480" y="1914480"/>
          <a:ext cx="7124760" cy="52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1914480"/>
                    <a:ext cx="712476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OC: Identifying Predictors &amp;</a:t>
            </a: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Their Cut-points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chotomous Variables: ROC calculates the Se and Sp for Female vs. Male, Aphasia vs. No Aphasia, etc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 Continuous Variables such as Age: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OC would calculate Se and Sp for the cut-point of 60 vs. 61+62+63 ….85; then could calculate for cut-point of 60+61 vs. 62+63+64 ….85, and so forth.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Receiver Operating Characteristic Curve 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(ROC) Analysis</a:t>
            </a:r>
            <a:br>
              <a:rPr sz="3600"/>
            </a:br>
            <a:endParaRPr b="0" i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gnal Detection Technique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aditionally used to evaluate diagnostic tests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w employed to identify subgroups of a population at differential risk for a specific outcome (clinical decline, treatment response)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dentifies moderators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ROC: Age as Predictor of </a:t>
            </a:r>
            <a:br>
              <a:rPr sz="4000"/>
            </a:b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linically Confirmed Depression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934920" y="1914480"/>
          <a:ext cx="7102440" cy="52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1914480"/>
                    <a:ext cx="710244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ROC: Age as Predictor of </a:t>
            </a:r>
            <a:br>
              <a:rPr sz="4000"/>
            </a:b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linically Confirmed Depression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941400" y="1914480"/>
          <a:ext cx="7013520" cy="516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1914480"/>
                    <a:ext cx="701352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Receiver Operating Characteristic Curve </a:t>
            </a: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(ROC) Analysis</a:t>
            </a:r>
            <a:br>
              <a:rPr sz="4000"/>
            </a:b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37339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onducting the ROC: An Example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endParaRPr b="0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ff00"/>
                </a:solidFill>
                <a:uFillTx/>
                <a:latin typeface="Times New Roman"/>
              </a:rPr>
              <a:t>ROC Analysis: Procedure</a:t>
            </a:r>
            <a:endParaRPr b="0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art with large sample size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fine the outcome of interest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oose Success/Failure criteria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dentify predictor variables of interest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un ROC Program that systematically finds best predictors for Success/Failure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C Analysis:  Example</a:t>
            </a:r>
            <a:br>
              <a:rPr sz="3200"/>
            </a:br>
            <a:br>
              <a:rPr sz="1800"/>
            </a:br>
            <a:endParaRPr b="0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pulation under investigation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1, 472 AD patients from 10 Centers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ith a 12 month follow-up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linically significant outcome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re rapid decline as defined by a loss of 3 or more MMSE points per year, post-visit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O'Hara R et al. (2002).  Which Alzheimer patients are at risk for rapid cognitive decline? J Geriatr Psychiatry Neurol;15(4):233-8. </a:t>
            </a:r>
            <a:br>
              <a:rPr sz="2000"/>
            </a:br>
            <a:endParaRPr b="0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ff00"/>
                </a:solidFill>
                <a:uFillTx/>
                <a:latin typeface="Times New Roman"/>
              </a:rPr>
              <a:t>Predictor Variables</a:t>
            </a:r>
            <a:endParaRPr b="0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-at -patient-visit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ported age of symptom onset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nder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ears of education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thnicity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MSE score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ving Arrangement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sence of Aphasia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sence of Hallucinations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sence of Extrapyramidal Sign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2"/>
          <p:cNvGraphicFramePr/>
          <p:nvPr/>
        </p:nvGraphicFramePr>
        <p:xfrm>
          <a:off x="596880" y="384120"/>
          <a:ext cx="7948800" cy="60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384120"/>
                    <a:ext cx="7948800" cy="60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topping Rules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o more possibilities (rare!)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adequate sample size 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ptimal test (if ‘a priori’) would not have been statistically significant (p&lt;.001)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2"/>
          <p:cNvSpPr/>
          <p:nvPr/>
        </p:nvSpPr>
        <p:spPr>
          <a:xfrm>
            <a:off x="1219320" y="3962520"/>
            <a:ext cx="53316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3"/>
          <p:cNvSpPr/>
          <p:nvPr/>
        </p:nvSpPr>
        <p:spPr>
          <a:xfrm flipH="1">
            <a:off x="5029200" y="3962520"/>
            <a:ext cx="53352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5562720" y="3962520"/>
            <a:ext cx="53316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 flipH="1">
            <a:off x="7315200" y="3962520"/>
            <a:ext cx="53352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7848720" y="3962520"/>
            <a:ext cx="53316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 flipH="1">
            <a:off x="5866920" y="2666880"/>
            <a:ext cx="838440" cy="685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2438280" y="2666880"/>
            <a:ext cx="838440" cy="685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4800600" y="3276720"/>
            <a:ext cx="152388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Oval 10"/>
          <p:cNvSpPr/>
          <p:nvPr/>
        </p:nvSpPr>
        <p:spPr>
          <a:xfrm>
            <a:off x="2819520" y="3276720"/>
            <a:ext cx="152388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6705720" y="2666880"/>
            <a:ext cx="838080" cy="685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4572000" y="1219320"/>
            <a:ext cx="1447920" cy="838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 flipH="1">
            <a:off x="1523880" y="2666880"/>
            <a:ext cx="914400" cy="685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228600" y="304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gure 10.3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Oval 15"/>
          <p:cNvSpPr/>
          <p:nvPr/>
        </p:nvSpPr>
        <p:spPr>
          <a:xfrm>
            <a:off x="3429000" y="304920"/>
            <a:ext cx="22860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3200400" y="4572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=512 (100%)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=.53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Oval 17"/>
          <p:cNvSpPr/>
          <p:nvPr/>
        </p:nvSpPr>
        <p:spPr>
          <a:xfrm>
            <a:off x="1447920" y="1828800"/>
            <a:ext cx="1981080" cy="838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Oval 18"/>
          <p:cNvSpPr/>
          <p:nvPr/>
        </p:nvSpPr>
        <p:spPr>
          <a:xfrm>
            <a:off x="533520" y="3276720"/>
            <a:ext cx="152388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Oval 19"/>
          <p:cNvSpPr/>
          <p:nvPr/>
        </p:nvSpPr>
        <p:spPr>
          <a:xfrm>
            <a:off x="5715000" y="1828800"/>
            <a:ext cx="1981080" cy="838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1143000" y="5791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ROC Decision Tree for IHDP Control group with 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outcome of low IQ at age 3.  (w= 0.5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21"/>
          <p:cNvSpPr/>
          <p:nvPr/>
        </p:nvSpPr>
        <p:spPr>
          <a:xfrm flipH="1">
            <a:off x="3200400" y="1219320"/>
            <a:ext cx="137160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5410080" y="1295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Non-minority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2819520" y="1309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Minority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1066680" y="19810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 = 321 (63%)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=.70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5334120" y="1933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 = 191 (37%)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=.25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304920" y="336852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N=211 (41%)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=.81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2590920" y="3336840"/>
            <a:ext cx="1981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=110 (21%)</a:t>
            </a:r>
            <a:br>
              <a:rPr sz="16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=.48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4267080" y="3336840"/>
            <a:ext cx="2590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=87 (17%)</a:t>
            </a:r>
            <a:br>
              <a:rPr sz="16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=.45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304920" y="2695680"/>
            <a:ext cx="213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Bayley Mental </a:t>
            </a:r>
            <a:br>
              <a:rPr sz="1600"/>
            </a:b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Dev. Index &lt; 115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Oval 30"/>
          <p:cNvSpPr/>
          <p:nvPr/>
        </p:nvSpPr>
        <p:spPr>
          <a:xfrm>
            <a:off x="7086600" y="3276720"/>
            <a:ext cx="152388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Text Box 31"/>
          <p:cNvSpPr/>
          <p:nvPr/>
        </p:nvSpPr>
        <p:spPr>
          <a:xfrm>
            <a:off x="4648320" y="26956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Mother never</a:t>
            </a:r>
            <a:br>
              <a:rPr sz="1600"/>
            </a:b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attended college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Text Box 32"/>
          <p:cNvSpPr/>
          <p:nvPr/>
        </p:nvSpPr>
        <p:spPr>
          <a:xfrm>
            <a:off x="6629400" y="3336840"/>
            <a:ext cx="2590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=104 (20%)</a:t>
            </a:r>
            <a:br>
              <a:rPr sz="16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=.09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7238880" y="269568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Mother attended </a:t>
            </a:r>
            <a:br>
              <a:rPr sz="1600"/>
            </a:b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college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2743200" y="269568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Bayley Mental </a:t>
            </a:r>
            <a:br>
              <a:rPr sz="1600"/>
            </a:b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Dev. Index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≥ 115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35"/>
          <p:cNvSpPr/>
          <p:nvPr/>
        </p:nvSpPr>
        <p:spPr>
          <a:xfrm flipH="1">
            <a:off x="609480" y="3962520"/>
            <a:ext cx="609840" cy="685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Oval 36"/>
          <p:cNvSpPr/>
          <p:nvPr/>
        </p:nvSpPr>
        <p:spPr>
          <a:xfrm>
            <a:off x="76320" y="4495680"/>
            <a:ext cx="1066680" cy="7621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Text Box 37"/>
          <p:cNvSpPr/>
          <p:nvPr/>
        </p:nvSpPr>
        <p:spPr>
          <a:xfrm>
            <a:off x="0" y="4648320"/>
            <a:ext cx="1371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=131 (26%)</a:t>
            </a:r>
            <a:br>
              <a:rPr sz="12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=.91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Oval 38"/>
          <p:cNvSpPr/>
          <p:nvPr/>
        </p:nvSpPr>
        <p:spPr>
          <a:xfrm>
            <a:off x="1295280" y="4495680"/>
            <a:ext cx="1067040" cy="7621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Text Box 39"/>
          <p:cNvSpPr/>
          <p:nvPr/>
        </p:nvSpPr>
        <p:spPr>
          <a:xfrm>
            <a:off x="1143000" y="4648320"/>
            <a:ext cx="1371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=80 (16%)</a:t>
            </a:r>
            <a:br>
              <a:rPr sz="12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=.65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94" name="Group 40"/>
          <p:cNvGrpSpPr/>
          <p:nvPr/>
        </p:nvGrpSpPr>
        <p:grpSpPr>
          <a:xfrm>
            <a:off x="5410080" y="4495680"/>
            <a:ext cx="1371600" cy="762120"/>
            <a:chOff x="5410080" y="4495680"/>
            <a:chExt cx="1371600" cy="762120"/>
          </a:xfrm>
        </p:grpSpPr>
        <p:sp>
          <p:nvSpPr>
            <p:cNvPr id="195" name="Oval 41"/>
            <p:cNvSpPr/>
            <p:nvPr/>
          </p:nvSpPr>
          <p:spPr>
            <a:xfrm>
              <a:off x="5562360" y="4495680"/>
              <a:ext cx="1066680" cy="7621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96" name="Text Box 42"/>
            <p:cNvSpPr/>
            <p:nvPr/>
          </p:nvSpPr>
          <p:spPr>
            <a:xfrm>
              <a:off x="5410080" y="4648320"/>
              <a:ext cx="13716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N=57 (11%)</a:t>
              </a:r>
              <a:br>
                <a:rPr sz="1200"/>
              </a:b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P=.30</a:t>
              </a:r>
              <a:endParaRPr b="0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97" name="Oval 43"/>
          <p:cNvSpPr/>
          <p:nvPr/>
        </p:nvSpPr>
        <p:spPr>
          <a:xfrm>
            <a:off x="4419720" y="4495680"/>
            <a:ext cx="1066680" cy="7621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Text Box 44"/>
          <p:cNvSpPr/>
          <p:nvPr/>
        </p:nvSpPr>
        <p:spPr>
          <a:xfrm>
            <a:off x="4267080" y="4648320"/>
            <a:ext cx="1371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=30 (6%)</a:t>
            </a:r>
            <a:br>
              <a:rPr sz="12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=.73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99" name="Group 45"/>
          <p:cNvGrpSpPr/>
          <p:nvPr/>
        </p:nvGrpSpPr>
        <p:grpSpPr>
          <a:xfrm>
            <a:off x="6629400" y="4495680"/>
            <a:ext cx="1371600" cy="762120"/>
            <a:chOff x="6629400" y="4495680"/>
            <a:chExt cx="1371600" cy="762120"/>
          </a:xfrm>
        </p:grpSpPr>
        <p:sp>
          <p:nvSpPr>
            <p:cNvPr id="200" name="Oval 46"/>
            <p:cNvSpPr/>
            <p:nvPr/>
          </p:nvSpPr>
          <p:spPr>
            <a:xfrm>
              <a:off x="6781680" y="4495680"/>
              <a:ext cx="1066680" cy="7621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01" name="Text Box 47"/>
            <p:cNvSpPr/>
            <p:nvPr/>
          </p:nvSpPr>
          <p:spPr>
            <a:xfrm>
              <a:off x="6629400" y="4648320"/>
              <a:ext cx="13716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N=43 (8%)</a:t>
              </a:r>
              <a:br>
                <a:rPr sz="1200"/>
              </a:b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P=.19</a:t>
              </a:r>
              <a:endParaRPr b="0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02" name="Group 48"/>
          <p:cNvGrpSpPr/>
          <p:nvPr/>
        </p:nvGrpSpPr>
        <p:grpSpPr>
          <a:xfrm>
            <a:off x="7772400" y="4495680"/>
            <a:ext cx="1371600" cy="762120"/>
            <a:chOff x="7772400" y="4495680"/>
            <a:chExt cx="1371600" cy="762120"/>
          </a:xfrm>
        </p:grpSpPr>
        <p:sp>
          <p:nvSpPr>
            <p:cNvPr id="203" name="Oval 49"/>
            <p:cNvSpPr/>
            <p:nvPr/>
          </p:nvSpPr>
          <p:spPr>
            <a:xfrm>
              <a:off x="7924680" y="4495680"/>
              <a:ext cx="1066680" cy="7621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04" name="Text Box 50"/>
            <p:cNvSpPr/>
            <p:nvPr/>
          </p:nvSpPr>
          <p:spPr>
            <a:xfrm>
              <a:off x="7772400" y="4648320"/>
              <a:ext cx="13716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N=61 (12%)</a:t>
              </a:r>
              <a:br>
                <a:rPr sz="1200"/>
              </a:b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P=.02</a:t>
              </a:r>
              <a:endParaRPr b="0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05" name="Text Box 51"/>
          <p:cNvSpPr/>
          <p:nvPr/>
        </p:nvSpPr>
        <p:spPr>
          <a:xfrm>
            <a:off x="0" y="3962520"/>
            <a:ext cx="1600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00"/>
                </a:solidFill>
                <a:latin typeface="Arial"/>
              </a:rPr>
              <a:t>Bayley Mental </a:t>
            </a:r>
            <a:br>
              <a:rPr sz="1100"/>
            </a:br>
            <a:r>
              <a:rPr b="1" i="1" lang="en-US" sz="1100" spc="-1" strike="noStrike">
                <a:solidFill>
                  <a:srgbClr val="ffff00"/>
                </a:solidFill>
                <a:latin typeface="Arial"/>
              </a:rPr>
              <a:t>Dev. Index&lt;106</a:t>
            </a:r>
            <a:endParaRPr b="0" lang="en-US" sz="1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Text Box 52"/>
          <p:cNvSpPr/>
          <p:nvPr/>
        </p:nvSpPr>
        <p:spPr>
          <a:xfrm>
            <a:off x="1371600" y="3962520"/>
            <a:ext cx="1600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00"/>
                </a:solidFill>
                <a:latin typeface="Arial"/>
              </a:rPr>
              <a:t>Bayley Mental </a:t>
            </a:r>
            <a:br>
              <a:rPr sz="1100"/>
            </a:br>
            <a:r>
              <a:rPr b="1" i="1" lang="en-US" sz="1100" spc="-1" strike="noStrike">
                <a:solidFill>
                  <a:srgbClr val="ffff00"/>
                </a:solidFill>
                <a:latin typeface="Arial"/>
              </a:rPr>
              <a:t>Dev. Index</a:t>
            </a:r>
            <a:r>
              <a:rPr b="1" i="1" lang="en-US" sz="1100" spc="-1" strike="noStrike">
                <a:solidFill>
                  <a:srgbClr val="ffff00"/>
                </a:solidFill>
                <a:latin typeface="Arial"/>
                <a:ea typeface="Arial"/>
              </a:rPr>
              <a:t>≥</a:t>
            </a:r>
            <a:r>
              <a:rPr b="1" i="1" lang="en-US" sz="1100" spc="-1" strike="noStrike">
                <a:solidFill>
                  <a:srgbClr val="ffff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Text Box 53"/>
          <p:cNvSpPr/>
          <p:nvPr/>
        </p:nvSpPr>
        <p:spPr>
          <a:xfrm>
            <a:off x="4267080" y="3962520"/>
            <a:ext cx="1600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00"/>
                </a:solidFill>
                <a:latin typeface="Arial"/>
              </a:rPr>
              <a:t>Bayley Mental </a:t>
            </a:r>
            <a:br>
              <a:rPr sz="1100"/>
            </a:br>
            <a:r>
              <a:rPr b="1" i="1" lang="en-US" sz="1100" spc="-1" strike="noStrike">
                <a:solidFill>
                  <a:srgbClr val="ffff00"/>
                </a:solidFill>
                <a:latin typeface="Arial"/>
              </a:rPr>
              <a:t>Dev. Index&lt;106</a:t>
            </a:r>
            <a:endParaRPr b="0" lang="en-US" sz="1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Text Box 54"/>
          <p:cNvSpPr/>
          <p:nvPr/>
        </p:nvSpPr>
        <p:spPr>
          <a:xfrm>
            <a:off x="5638680" y="3962520"/>
            <a:ext cx="1600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00"/>
                </a:solidFill>
                <a:latin typeface="Arial"/>
              </a:rPr>
              <a:t>Bayley Mental </a:t>
            </a:r>
            <a:br>
              <a:rPr sz="1100"/>
            </a:br>
            <a:r>
              <a:rPr b="1" i="1" lang="en-US" sz="1100" spc="-1" strike="noStrike">
                <a:solidFill>
                  <a:srgbClr val="ffff00"/>
                </a:solidFill>
                <a:latin typeface="Arial"/>
              </a:rPr>
              <a:t>Dev. Index</a:t>
            </a:r>
            <a:r>
              <a:rPr b="1" i="1" lang="en-US" sz="1100" spc="-1" strike="noStrike">
                <a:solidFill>
                  <a:srgbClr val="ffff00"/>
                </a:solidFill>
                <a:latin typeface="Arial"/>
                <a:ea typeface="Arial"/>
              </a:rPr>
              <a:t>≥</a:t>
            </a:r>
            <a:r>
              <a:rPr b="1" i="1" lang="en-US" sz="1100" spc="-1" strike="noStrike">
                <a:solidFill>
                  <a:srgbClr val="ffff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Text Box 55"/>
          <p:cNvSpPr/>
          <p:nvPr/>
        </p:nvSpPr>
        <p:spPr>
          <a:xfrm>
            <a:off x="7924680" y="3962520"/>
            <a:ext cx="1600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00"/>
                </a:solidFill>
                <a:latin typeface="Arial"/>
              </a:rPr>
              <a:t>Graduated</a:t>
            </a:r>
            <a:br>
              <a:rPr sz="1100"/>
            </a:br>
            <a:r>
              <a:rPr b="1" i="1" lang="en-US" sz="1100" spc="-1" strike="noStrike">
                <a:solidFill>
                  <a:srgbClr val="ffff00"/>
                </a:solidFill>
                <a:latin typeface="Arial"/>
              </a:rPr>
              <a:t>from college</a:t>
            </a:r>
            <a:endParaRPr b="0" lang="en-US" sz="1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Text Box 56"/>
          <p:cNvSpPr/>
          <p:nvPr/>
        </p:nvSpPr>
        <p:spPr>
          <a:xfrm>
            <a:off x="6934320" y="3962520"/>
            <a:ext cx="1600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00"/>
                </a:solidFill>
                <a:latin typeface="Arial"/>
              </a:rPr>
              <a:t>Attended, did</a:t>
            </a:r>
            <a:br>
              <a:rPr sz="1100"/>
            </a:br>
            <a:r>
              <a:rPr b="1" i="1" lang="en-US" sz="1100" spc="-1" strike="noStrike">
                <a:solidFill>
                  <a:srgbClr val="ffff00"/>
                </a:solidFill>
                <a:latin typeface="Arial"/>
              </a:rPr>
              <a:t>not graduate</a:t>
            </a:r>
            <a:endParaRPr b="0" lang="en-US" sz="1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ROC Plane and “Swarm” of Points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838080" y="1295280"/>
          <a:ext cx="769644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769644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4"/>
          <p:cNvSpPr/>
          <p:nvPr/>
        </p:nvSpPr>
        <p:spPr>
          <a:xfrm flipH="1">
            <a:off x="2286000" y="1752480"/>
            <a:ext cx="4191120" cy="3429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Line 5"/>
          <p:cNvSpPr/>
          <p:nvPr/>
        </p:nvSpPr>
        <p:spPr>
          <a:xfrm flipH="1">
            <a:off x="3962520" y="1752480"/>
            <a:ext cx="1295280" cy="609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Line 6"/>
          <p:cNvSpPr/>
          <p:nvPr/>
        </p:nvSpPr>
        <p:spPr>
          <a:xfrm flipH="1">
            <a:off x="3505320" y="2362320"/>
            <a:ext cx="457200" cy="533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Line 7"/>
          <p:cNvSpPr/>
          <p:nvPr/>
        </p:nvSpPr>
        <p:spPr>
          <a:xfrm flipH="1">
            <a:off x="2666520" y="2895480"/>
            <a:ext cx="838440" cy="91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Line 8"/>
          <p:cNvSpPr/>
          <p:nvPr/>
        </p:nvSpPr>
        <p:spPr>
          <a:xfrm flipH="1">
            <a:off x="2286000" y="3809880"/>
            <a:ext cx="380880" cy="91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2286000" y="4724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2489400" y="19368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ROC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urve”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2895480" y="2590920"/>
            <a:ext cx="30492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2209680" y="1752480"/>
            <a:ext cx="2057400" cy="1828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Receiver Operating Characteristic Curve </a:t>
            </a: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(ROC) Analysis</a:t>
            </a:r>
            <a:br>
              <a:rPr sz="4000"/>
            </a:b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istorical Development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To Detect the Optimal 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Sensitivity and Specificity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pends on the relative CLINICAL importance of false negatives versus false positives.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=1 means only false negatives matter.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=0 means only false positives matter.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=1/2 means both matter equally.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alytically:  Use weighted kappa.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ometrically:  Draw a line through the Ideal Point with slope determined by P and w.  Push this line down until it just touches the ROC “curve”.  That point is optimal.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 Analysis: Conclusion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ields Clinically Relevant Information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dentifies complex interactions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dentifies individuals with different characteristics but at the same risk for the clinically relevant outcome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dentifies individuals at the least risk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n take differential clinical costs of false positives and false negatives into account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clusion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t is not sufficient to identify risk factors or even to identify moderators and mediators etc. or a structural model. 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t is necessary to present and interpret the results so that clinicians, policy makers, consumers, other researchers can apply them.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OC trees are one method to accomplish this purpose.  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240" y="1519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OC Analysis: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Historical Development (1)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rived from early radar in WW2 Battle of Britain to address: Accurately identifying the signals on the radar scan to predict the outcome of interest – Enemy planes – when there were many extraneous signals (e.g. Geese)?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4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OC Analysis:</a:t>
            </a:r>
            <a:br>
              <a:rPr sz="4400"/>
            </a:b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Historical Development (2)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True Positiv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Radar Operator interpreted signal as Enemy Planes and there were Enemy planes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(Good Result: No wasted Resources)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rue Negativ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Radar Operator said no planes and there were non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(Good Result:  No wasted resources)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alse Positiv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Radar Operator said planes, but there were none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Geese:  wasted resources)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alse Negativ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Radar Operator said no plane, but there were planes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Bombs dropped: very bad outcome)</a:t>
            </a: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OC Analysis:</a:t>
            </a:r>
            <a:br>
              <a:rPr sz="4400"/>
            </a:b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Historical Development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ensitivit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Probability of correctly interpreting the  radar signal as Enemy planes among those times when Enemy planes were actually coming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 = True Positives / True Positives + False Negatives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pecificit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Probability of correctly interpreting the  radar signal as no Enemy planes among those times when no Enemy planes were actually coming 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P = True Negatives / True Negatives + False Positives</a:t>
            </a: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OC: Prediction of Enemy Planes </a:t>
            </a:r>
            <a:br>
              <a:rPr sz="4400"/>
            </a:b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by RAF Radar Operators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550800" y="1905120"/>
          <a:ext cx="8507520" cy="48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1905120"/>
                    <a:ext cx="850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Receiver Operating Characteristic Curve </a:t>
            </a: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(ROC) Analysis Applications: </a:t>
            </a:r>
            <a:br>
              <a:rPr sz="4000"/>
            </a:br>
            <a:br>
              <a:rPr sz="4000"/>
            </a:b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Evaluating Medical Tests</a:t>
            </a:r>
            <a:br>
              <a:rPr sz="4000"/>
            </a:b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9T11:21:42Z</dcterms:created>
  <dc:creator>Noda, Arthur</dc:creator>
  <dc:description/>
  <dc:language>en-US</dc:language>
  <cp:lastModifiedBy>Noda, Arthur</cp:lastModifiedBy>
  <cp:lastPrinted>1999-01-29T06:29:18Z</cp:lastPrinted>
  <dcterms:modified xsi:type="dcterms:W3CDTF">2015-07-02T15:34:39Z</dcterms:modified>
  <cp:revision>464</cp:revision>
  <dc:subject/>
  <dc:title>Biological Markers of Cognitive Change in Older Adults</dc:title>
</cp:coreProperties>
</file>